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9.11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1AE486-CC52-4936-A688-97ACE88DDE6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203EB-8A51-406D-9280-AFBF5B2A179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58255-86EF-4540-8E63-BDE8031ACAE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A9758-140D-4E77-838B-8305C9A276B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4BCCD-67D6-4D09-AF7B-CB9040CD89F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83406-FFA6-4F95-99B4-1132BEA32C1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3532D-50EF-430A-8AD5-F481977FCBD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B9598-77DD-43FD-85A5-B5E1FE26961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07873-CA93-4149-94CC-1CBE216064B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0077B-B653-4A05-A539-56E70F04921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2ACD7-5646-43E6-91CE-C3DCE463B89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167C2-F391-49E7-A7D8-28F747D31F2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0611E-B9A3-462E-8DAA-63F9941F464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97903-E46E-41DC-9F19-90094A3DB0B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8E657-EE17-4FE6-AD90-CE1218F4AC2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60276-ACD4-4278-8FBF-0D7BE38F0BA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624BF-DB0C-4EEB-ABC7-EA21850D6C7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1B91-1363-4232-AAEB-15107C2F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6804-AA04-4D22-BDEF-6A46FB45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4FC8-8B88-4867-9099-64E689FE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34D-34C4-474D-978B-CEBA8032C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0A95-2C12-4F62-AE4E-2E453F86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ACB4-A53B-4F9E-BAFF-C8A74A6B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276-9965-4198-9BC5-F1110104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713-1FF5-4840-A057-CF28E39F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BDF2-04A7-4B85-A5EB-01D106C7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38CD-AAE7-4DBA-90CF-96DF962D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3E25-2E08-4A8A-9CEC-482E0746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AED8-F112-4180-8B4D-56DFE8D5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9B2E3D-49CD-43B7-B59A-7D184EF4D9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cs-CZ" sz="6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2279160"/>
            <a:ext cx="78868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Arial"/>
              </a:rPr>
              <a:t>Helena Matasov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aké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bude zajímat orgány  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2136240"/>
            <a:ext cx="7886880" cy="492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má příjemce zavedeny vhodné a přiměřené systémy pro dokladování projektových výdajů a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je vedena řádná archivace dokumentů souvisejících s projektem realizovaným               za podpory OP V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řípadě, že je v projektu zahrnut partner, proběhnou i u něho stejné kontroly jako u příjemce a dále u něj ověří plnění partnerství stanovené    ve schváleném projektu a uzavřeném smluvním vztahu mezi příjemcem a partne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 udržitelnost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8143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é jsou stanoveny lhůty pro archivování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82640" y="1636200"/>
            <a:ext cx="788688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pro účely kontroly ze strany Evropské komise, Evropského účetního dvora, Nejvyššího kontrolního úřadu a dalších oprávněných osob archivova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 konce roku 2025,                          pokud český právní systém nestanovuje           lhůtu delš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*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30 let mzdové listy nebo účetní záznamy, které slouží pro důchodové zabezpe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artační znak bude v rozmezí – A/V/S /17 nebo /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= archiv, V = výběr,S = stoupa/skar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 = délka uložení dokumentu před dalším zpracováním (počíná běžet 1. dnem následujícího roku, ve kterém byla vyřízena nebo pozbyla význ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82640" y="35100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82640" y="1708200"/>
            <a:ext cx="807264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 dokumentů a dokladů, které je potřeba uchovávat, se musí řídit zejména hlediskem prokazatelnosti, tzn.,  že je zapotřebí uchovávat všechny dokumenty a doklady způsobilé jednoznačně prokázat kontrolujícímu orgánu, že poskytnuté prostředky byly využity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 souladu s účelem a prav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zhodnutí o poskytnutí dotace je pro příjemce stanovena povinnost uchovávat dokumenty a doklady vztahující se k projektům odděleně, se zvláštní lhůtou a zvláštním režimem práce uvedené v Obecném n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ponechá originály dokladů jako součást svého účetnictví, daňové evidence a ostatních evidencí a při jejich uchovávání se řídí českými právními předpisy a nařízeními 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82640" y="1922400"/>
            <a:ext cx="7886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lady a záznamy o realiz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záznamy a dokumenty týkající se výdajů a auditů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originály dokladů týkajících se implementace a čerpání z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dělené účetnictví s originálními účetními doklady, které prokazují uskutečnění uznatelných výdajů nebo na základě kterých se uznatelné výdaje realiz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korespondenci s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ávy o výsledcích zadávacích řízení (výběr dodavatele) včetně související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pie zkontrolované, autorizované žádosti příjemce     o platbu, včetně příl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ginály zápisů z provedených kontrol a potvr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 schválení a příkaz k propla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působilých výdajů projektu (podle finančních to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další dokumentaci vzniklou při implementaci z úrovně příje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Legislativní ráme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82640" y="1564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č. 499/2004 Sb.,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a schválena novela č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9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KON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 dne 28. května 2009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terým se mění zákon č. 499/2004 Sb., o archivnictví a spisové službě a o změně některých zákonů, ve znění pozdějších předpisů, a další související zákony (účinnost od 1. 7.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6/2004 Sb., o podrobnostech výkonu spisové služby, v platném z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5/2004 Sb., kterou se provádějí některá stanovení zákona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82640" y="1922040"/>
            <a:ext cx="7886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6600" spc="-1" strike="noStrike">
                <a:solidFill>
                  <a:srgbClr val="f3912c"/>
                </a:solidFill>
                <a:latin typeface="Arial"/>
              </a:rPr>
              <a:t>Děkuji za pozornost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lena Matas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elena.matasova@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.: +420 234 814 2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bil: +420 602 545 7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se v prezentaci dozví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82640" y="1767960"/>
            <a:ext cx="78868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k procesu uchovávání dokumentů a dokladů vzniklých při implementaci pomoci                z Evropského sociálního fondu a státního rozpočtu České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k tvorbě, vedení a uklád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de o informace charakteru doporučujícího,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vaznosti na vytvoření vlastních interních předpisů, přičemž tyto nesmí být v rozporu s platnou Příručkou pro příjemce a Rozhodnutím o poskytnutí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povinen archivova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chny subjekty zapojené                    do implementační struktury Operačního programu Vzdělávání pro konkurenceschopnost  (OP V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jem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subjekt realizující projekt       z OP V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a co je zodpovědný příjem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šťuje archivaci písemností a dokumentů spojených s projek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azuje i dodavatele, aby umožnil všem subjektům oprávněným k výkonu kontroly provést kontrolu dokladů souvisejících s plněním zakázky pro projekt, a to po dobu danou právními předpisy ČR k jejich archiva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avate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osoba povinná spolupůsobit dle zákona č. 563/1991 Sb., o účetnictví, a zákona č. 235/2004 Sb., o dani z přidané hodnoty, je povinen uchovávat doklady spojené s dodávkou a spolupůsobit při kontrole dle zákona č. 320/2001 Sb. o finanční kontrole bez omezení, pokud k tomu bude vyzvá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archivace dokumentů a d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ložení těch dokumentů,  jejichž oběh byl ukončen, zkontrolován   a vyhodnocen, pro možnost jejich opětovného použití a rychlého přístupu   k n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O doporučuje všem příjemcům, aby stanovili jednu osobu zodpovědnou za vedení a spravování „předběžného archivu“ realizovaného projektu dle těchto archivačních pravidel – tato odpovědnost nemusí být její jediná, vedení a spravování archivu může být její vedlejší činn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9720" y="27936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á jsou základní pravidla archiva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říjemce a partnera/ů, v případě že projekt má partnera/y, jsou uloženy všechny originály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chování a zabezpečení před ztrá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účetní dokumenty a smluvní písemnosti musí být uloženy na jednom místě, z důvodu zpřístupnění jednotlivých dokladů v případě k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uhopisy některých dokumentů, případně ověřené fotokopie jsou uloženy u ŘO a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1000" y="136440"/>
            <a:ext cx="78865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i použití IT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e archivací mysl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2640" y="1351080"/>
            <a:ext cx="788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kopií dokumentů a jejich ukládání na různá místa disku PC nebo na další nosiče dat (CD-R, DVD, příp. další), a to z důvodů,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škození pevných disků počítače, případně jiné poruch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izení techniky, případně jejího zniče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ho vymaz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 aktualizace dat a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1000" y="707760"/>
            <a:ext cx="78865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musíte uděl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493640"/>
            <a:ext cx="788688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umenty v digitální podobě určené ke skartačnímu řízení musí být opatřeny metadaty podle národního standardu pro elektronické systémy spisové služby – není-li tomu tak, převedou se po uzavření spisu          do analogové podoby (§ 69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etad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data popisující souvislosti, obsah a strukturu dokumentů a jejich správu v průběhu č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elně (min.1x za dva roky) kontrolovat stav médií k zálohování a zálohovacích mecha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archivovaní a zálohování vždy porovnat  zálohovaná data s originálem – ver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stit trvalost uložených dat s ohledem na použitá média v průběhu stanovené archivační d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orgánem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640" y="2136600"/>
            <a:ext cx="788688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ředníci nebo pověření zástupci Komise, Evropské investiční banky, Evropského účetního dvora, Evropského úřadu pro potírání podvodného jednání (OLA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ávislé auditní org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Platebního a certifikačního orgánu (P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ŘO – Sekce řízení Operačních programů EU (O 41, 42, 46), pracovníci věcných útvarů přizvaní na kontrolu pracovníky Odboru CERA, Odboru řízení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 VK a Odboru 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ditní orgány Ř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yšší kontrolní úřad (NKÚ), Ministerstvo financí ČR a finanční úř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adně další orgány s pověřením ke kontrole (FÚ, ÚHOS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18T11:21:02Z</dcterms:modified>
  <cp:revision>158</cp:revision>
  <dc:subject/>
  <dc:title>Snímek 1</dc:title>
</cp:coreProperties>
</file>